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A94-FF22-4A7C-A0D3-33783298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512-17FE-405A-A148-8A3B9541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D72E82-8C9A-4917-9F8B-8DFE3617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A54664-FC3F-481A-A950-0EE43E07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F2520B-D5D4-4540-BF66-08FD2EF5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E99A93-60A9-4242-879D-3CAF7AA4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434C37-AAE7-49F6-B495-74613440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3D41BF-475F-4621-AFD4-CCC3651B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94726A-B3FD-435A-A539-8F6EFECB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74D883-975C-47B5-9218-7909EB2D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A6135E-1020-4B89-9A47-E4544A17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CFE78-6588-4655-9E99-582A10E2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D56-016F-4737-AAC2-7F8BE25B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5F1B9-B3F6-474A-9D99-34028CBC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1DCAC-F0A7-492A-82E2-8387DB6F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56CFF-FA94-418E-94BD-4022776F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F313E-4982-44C4-AE0E-CFAF7794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D69ED-1AA3-49C8-A8E3-7E744192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B4141-8752-4D22-B229-EE620E14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76124-2636-40A2-9C0D-C67A63B0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41EC6-362D-4B96-A50F-B102C2DA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A9109-949E-43BB-A48B-6717EB57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1ECB1-7E75-41A4-926B-4B10ABB7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35B-4C21-4AB3-95B4-B5FD234C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0440C-D51A-461D-A63E-7BA98D5A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4289C-9407-4490-AFBB-CB6BE39F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AEB42-6DA4-485F-96F0-9794ABF0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0DB50-D063-4E6C-B53E-0BB5687A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D14B8-84B2-4E4E-B89E-A1446E97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AF506-F232-42A0-8916-2F3EEDF7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30306-4127-4137-8711-E70BC849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711E8-7D4A-4146-BD40-BBF107D7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C829D-162B-4476-8005-D76DD530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80A63-A6C2-4D44-9C11-874E8BD8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F6A1-9F54-4829-94C2-9C3FE207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ED3D1-4E1A-4AA2-8771-C7149167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C5A58-83D2-46D3-8E23-EA31EB0D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5D295-34FF-4F43-AFFD-F634EA97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A09CF0-DD5E-4E32-8B4E-1B701B37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19EFA5-FB6B-44E0-8D1E-FA20E48F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5379E4-EC40-472C-9E1F-B4131E24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5A6976-5996-472D-AA9B-8D2C9325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49AAFE-BB49-41B1-8269-096B85F0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901050-BC3D-4B96-86B0-7765C9AA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84DAF9-1D0B-4F2B-8343-C968AEA9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C707-1449-4E50-98E0-87677884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6D0353-33A4-4295-99D9-23A6C8AD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471226-65E0-4237-A93C-1AB39700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762221-420D-4996-AC09-4CE685EB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AD130F-5B1B-42EC-871F-42D45739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FE8B76-CDAC-42BC-92D3-D7ECBA22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A2D1-F439-4C6D-BDA6-3B04B5A1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EE61-96AB-42E4-8B19-4F71A647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5386-AAEE-4E19-B1A7-871E3737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6426-B9F4-4A50-9A3F-DA465F85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E28E-893D-4CC8-B030-AFE2158A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CC9-B49D-4FD8-A87C-F1EF69D6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C449-863A-416D-BF8A-DC819A71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3255-27A4-4015-9B1B-5048DA8C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45D8-90FD-4D10-A51B-FFFC7853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6749-829D-4E7B-B48D-A31B4ABE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0A97-2EF6-4610-94A2-ECC9C93F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7BAC9-8354-433B-AD6E-84B31088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BA69-0421-4123-9091-9AA857A2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CEFB7-76E8-48C5-B6A0-F446ECB0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D38A3-8638-4817-81F5-D7259B34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3BE8C-2C47-43B3-B6AD-98C9C4CA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349-F631-4055-9653-D8206037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E74CE-EB65-42E1-AE7A-30E946B7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B3E3F-06B7-49AC-AF9B-3982C0DC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CFBCC-7B29-44E2-ABA2-D9D8699C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5FAB0-61D3-4DAD-B8AC-D20A7EC2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CF2BB-89EA-457C-84A0-375D836B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45658-1B12-441B-A45E-DB7B9490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EF2ED-9A43-4DF7-8EA2-C0A39C5D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1D464-C041-40A2-AC6E-FBB1675C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933D9-DCA7-4A57-B0D0-6EAED0D7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59176-CDC2-4EF1-A61C-C184F67F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A69F-FA90-4423-AB91-8B449EC7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D848E-C043-468F-937C-5C60D4BC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830AC-B841-4096-B799-6EC79831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D5051-8C8A-4576-9645-578533C7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71C23-1EB1-4992-9406-CE114A02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01F97-116D-4500-8F36-2884391B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E12E7-37B2-4AA6-8893-3CF51ABE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76DF0-3414-405E-B564-FCC0C872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E6F64-770C-4148-B31B-24288E00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6694C-999F-4B0F-ACC1-902A2E7E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A3EA2-8B10-4546-B1F6-55CE4F08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D868-F988-44BA-992F-DC99920D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E4D75-32C0-4057-9F74-10E6E429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4BB18-4157-490D-91A4-57872839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BD260-3157-47B8-AD1F-D265AC2A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A79AA-BE72-4340-9E46-1B356AC9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CBD48-EC36-4C52-842D-85E0E829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126C3-5829-4AF9-8E40-A6069377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ECE9E-85F7-49AF-B95E-58BF24FC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79A1A-2CD3-41F3-A864-45050EC1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6F875-875C-431D-ABE2-92940528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2C74C-42B2-427D-B3FC-63ADF23C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7690-2955-44E9-850A-4729CB28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E19FD-4563-4346-B1CF-07986152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0865B-0F5F-4182-B6A1-E3715A1C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4F78D-E52C-4D6B-84F6-0FE8A3FB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8B92F-6632-4DCA-9826-F6DA41B2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F27F9-3E83-44FE-9802-C2A8D315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F9D06-6AD1-4C2F-BEC5-6C118442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364EF-9BB2-4369-A24A-6140AA36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445A0-0D84-4DB0-80D5-ABE276AB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2FA34-B7F5-421D-9EEE-ADF53F4D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1337E-DEEC-47DB-8F6E-7754BA47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B77-CC98-47B6-8F6F-72BB0CC8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BF41B-5E10-40B6-AA78-D4B9AD6B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921C7-748D-45D5-85D7-18259B69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6FA2A-5617-4129-84FA-46C4D6FF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12592-0C95-48A2-BE1C-B454A3CD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AE476-A82F-4958-A5DC-1748F214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F38A6-BDFE-4604-8ACF-70F0C590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A1878-E0F9-4664-92E2-0202C245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9F0FC-2322-463D-885E-4C0DC5C2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BE1BD-6183-4615-A689-2A056E17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A6A66-2C95-4C0D-8843-EF61DBBA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A0F-59B5-489F-8B51-AA06AE11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B0B2A-6813-40BD-AC7E-F6845889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40E7E-2163-40F2-97BA-C1C42A3D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99402-5ED8-4226-90EC-C8DB9D40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6D1CB-3450-466C-9860-1A9206AE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F8A36-9DE1-4142-AE8C-F2A19CBF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34F13-D783-4035-BD66-F884D6C0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AF532-6343-4104-9281-5C4DC4ED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14FA4-0E4F-44E8-96E6-E9E2C7E7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53251-A53A-4E77-BF9D-5B90751C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07BAE-75ED-43B4-B122-F4021E69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8D30-D7AB-44DB-BE99-009BA181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46331-57F8-473B-B924-D5CD1A09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58692-827E-47CA-A486-370B0C81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66A48-4F0C-46AA-A3B8-4C04928B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5056E-7B5E-4DC9-9477-0776D205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A6538-0811-492B-A2E8-E3B74166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97597-A0DB-4703-A0A2-AAE59480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8DC0E-B749-493E-8046-D51FB4CD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435DF0-38E3-4C8F-84B4-916DEBBA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F82F9A-B0DE-4F3C-9700-68988E71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D7E14E-70EC-458C-B321-3DAC94E0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F5FF-36FF-4F07-A3B5-E842594AC9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0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BA3E-45C4-4E3E-93F1-DC8FD9F169B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7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7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95CD-449F-4228-9F65-A3D480F550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3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3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4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A9C4-DA5F-4A9C-9B4B-2197359291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A086-89DA-4275-B3D8-0BCA6BBAA9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FD55-CCAF-4B76-8AD0-36EDDF7493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7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2784-5093-4F95-A541-0238549F91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7417-2171-4D17-9815-12A9BF9CA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7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9C5E-10E6-4A56-B5B7-9CDD40435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7A89-E34D-4DA9-98E8-404E6442F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8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B123-F9D2-408D-96B4-09C26FACE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3DDF-D213-4113-A71C-79A6DB356AD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23isback.com/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d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d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3f2d9"/>
                </a:solidFill>
                <a:latin typeface="Arial"/>
              </a:rPr>
              <a:t>Steve Broussard</a:t>
            </a:r>
            <a:endParaRPr b="0" lang="en-US" sz="57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6e6da"/>
                </a:solidFill>
                <a:latin typeface="Verdana"/>
              </a:rPr>
              <a:t>All About M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Times New Roman"/>
              </a:rPr>
              <a:t>What I’m good 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tting sho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sted on the Blo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tting Mone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y Favorite Web Sit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ww.theshoegam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www.23isbac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ww.nicekick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0496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y Favorite Food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ke Pot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y Favorite Teachers are….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s. We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s. Rich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. J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f I could I would…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put all of the Jordan's on sale for a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n 10 years I….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be the richest ev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My Favorite artists/athletes are…..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hael Jord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t P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40:32Z</dcterms:created>
  <dc:creator>004student</dc:creator>
  <dc:description/>
  <dc:language>en-US</dc:language>
  <cp:lastModifiedBy>004student</cp:lastModifiedBy>
  <dcterms:modified xsi:type="dcterms:W3CDTF">2008-10-30T16:00:43Z</dcterms:modified>
  <cp:revision>5</cp:revision>
  <dc:subject/>
  <dc:title>Steve Broussard</dc:title>
</cp:coreProperties>
</file>